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0CB-A8D4-495B-854C-9F676EA3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748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4CD-A438-4174-82BB-270FB247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740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915F-869D-4111-96B0-F884B564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32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344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32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344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E85-8D23-4CAD-92F3-B3AC2077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EA74-3819-445C-B66E-49EAE3FE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90B4-8DC6-43DC-A99A-47906B66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59BE-833C-427F-A71D-8073FB22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94A6-7F95-4F19-AF76-3DED032F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847B-D916-451B-A449-07DDC7C2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58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6D07-8B8B-42FB-B6CE-CA732E29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8DD8-44D6-4A17-AD0A-82BE261C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B25-EEF0-4CAA-9D23-EE50C686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740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F95E-ABB5-40F8-BD65-31B8C81E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6BC0-7D46-457C-850E-47F9203E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748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267A-0B6E-4A41-8E18-F5331BE1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740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52F3-2620-4AAE-9E6B-4A8C6E70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32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344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32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344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0858-108B-470E-A818-88145E46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60EA-5190-442E-82FF-9CF0EE0A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077-2F16-46FE-B06E-A61864E4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F5B-DDD1-4C2E-9F23-BCE3CE0C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58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8DE-35CF-4571-8FFB-E1CDDD20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43C3-1682-41D9-AFF8-948740E5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740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D4D-B698-41B5-8580-31C71CF9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CC9-6116-4F4C-BFC2-E578F908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8280"/>
            <a:ext cx="1089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11/0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280" y="6582960"/>
            <a:ext cx="6046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82960"/>
            <a:ext cx="1077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993DAE-9DC0-4841-BCA2-68F05652E87D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39640" y="6311880"/>
            <a:ext cx="2771640" cy="103320"/>
            <a:chOff x="539640" y="6311880"/>
            <a:chExt cx="2771640" cy="103320"/>
          </a:xfrm>
        </p:grpSpPr>
        <p:sp>
          <p:nvSpPr>
            <p:cNvPr id="8" name=""/>
            <p:cNvSpPr/>
            <p:nvPr/>
          </p:nvSpPr>
          <p:spPr>
            <a:xfrm>
              <a:off x="1650240" y="6311880"/>
              <a:ext cx="1661040" cy="10332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9640" y="6311880"/>
              <a:ext cx="1048680" cy="10188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436640"/>
            <a:ext cx="8205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578280"/>
            <a:ext cx="1089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11/0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47280" y="6582960"/>
            <a:ext cx="6046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596360" y="6582960"/>
            <a:ext cx="1077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8791F03-A489-4038-BE51-D710F7DB89E5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906560" y="3645000"/>
            <a:ext cx="5329080" cy="198360"/>
            <a:chOff x="1906560" y="3645000"/>
            <a:chExt cx="5329080" cy="198360"/>
          </a:xfrm>
        </p:grpSpPr>
        <p:sp>
          <p:nvSpPr>
            <p:cNvPr id="53" name=""/>
            <p:cNvSpPr/>
            <p:nvPr/>
          </p:nvSpPr>
          <p:spPr>
            <a:xfrm>
              <a:off x="4042800" y="3645000"/>
              <a:ext cx="3192840" cy="19836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6560" y="3646080"/>
              <a:ext cx="2017080" cy="19548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i.opasnet.org/fi/Kysely_puun_pienpoltosta" TargetMode="External"/><Relationship Id="rId2" Type="http://schemas.openxmlformats.org/officeDocument/2006/relationships/hyperlink" Target="http://fi.opasnet.org/fi/Kysely_puun_pienpoltosta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466880"/>
            <a:ext cx="820728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ysely tiedonhankinnan tukena</a:t>
            </a:r>
            <a:br>
              <a:rPr sz="2400"/>
            </a:br>
            <a:endParaRPr b="1" lang="en-US" sz="36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i-FI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E805-0DB7-4AFB-AF30-A678592940A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erveysvaikutusten arvioint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yrkimyksenä ratkaista, miten pienen taajaman lämmöntuotanto tulisi toteuttaa kun otetaan huomio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enhiukkasten terveysvaikutu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mastovaikutuk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-&gt; terveysvaikutuk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orat ja epäsuorat kustannu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5445000"/>
            <a:ext cx="7750080" cy="100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8FF-BB55-4E58-903A-6589F8FF55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rvioinnin rajauks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000 asukkaan taaj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enet energialaitokset (1-20MW) sekä talouksien polttolaitteet (&lt; 20 K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ämpöenergian tuot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ttoaineet: puu, pelletti, kevyt ja raskas ölj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svihuonekaasut sekä PM2.5 –päästö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veysrisk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ikutukset ilmast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stannu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4000" y="4005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F5E-945E-424B-88CB-E563A411FA8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rviointimallin ra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04040" cy="435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6BB-2603-434C-8A65-1FEC38C7D5A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selyn tarkoitu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elyn tarkoituksena oli kerätä tietoa eri sidosryhmien näkemyksistä mm. siitä miten lämmöntuotanto pientaloissa tulee kehittymään tulevaisuuden Suomessa (tarkasteluvuosi 2030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elyn tuloksia tullaan hyödyntämään arviointimallin rakentamisessa sekä tulevaisuuden arviointien suunnittelu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44D-04BE-461A-ACF8-04F7AE0FD7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selyn 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ämpöenergian tuota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ämmöntuotanto tulevaisuuden Suom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ämmöntuotannon keskittä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ämpöenergian tuotannon ominaispäästöt (PM2.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ämmöntuotannon kustannusten kehittym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vioinnin tavoitteet ja arv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insäädäntöön vaikuttavat tekijä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8DDB-A744-4787-952C-135439B1AB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yselyn toteuttamine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tikys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fi.opasnet.org/fi/Kysely_puun_pienpolt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ysely oli aktiivisena kaksi viikkoa (16.-30.11.200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ysely esiteltiin Puun pienpoltto seminaarissa Helsingissä (10.11.200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457200">
              <a:lnSpc>
                <a:spcPct val="85000"/>
              </a:lnSpc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allistujina mm. tutkijoita, välinevalmistajia/ -kehittäjiä, päättäjiä/valtiolaitosten edustaj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ysely lähetettiin sähköpostitse osallistujille ja muistutuksia parin viikon aikana usei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BA0B-9DE7-4B16-884E-F5255E143B6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Vastausten määr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480360" cy="3463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42920" y="5516640"/>
            <a:ext cx="67690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yselyyn vastasi 111 kaikista 181 kyselyn vastaanottaj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2FE-344D-4E76-BE1B-F740F27DCF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1A. Puun käyttö pääasiallisena lämmönlähteen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i-FI" sz="2600" spc="-1" strike="noStrike">
                <a:solidFill>
                  <a:srgbClr val="000000"/>
                </a:solidFill>
                <a:latin typeface="Arial"/>
              </a:rPr>
              <a:t>Vertailukohta:</a:t>
            </a: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uonna 2005 lämpölähteiden käyttöosuudet omakotitaloille olivat: puun pienpoltto (puun poltto pääasiallisena ja lisälämmönlähteenä sekä pelletit) 27%, öljylämmitys 22%, sähkölämmitys 33%, kaukolämpö 5% ja lämpöpumppu 13% (Vehviläinen ym. 2007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i-FI" sz="2600" spc="-1" strike="noStrike">
                <a:solidFill>
                  <a:srgbClr val="000000"/>
                </a:solidFill>
                <a:latin typeface="Arial"/>
              </a:rPr>
              <a:t>Kysymys:</a:t>
            </a: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ten arvioit tilanteen muuttuvan omakotitaloissa Suomessa vuoteen 2030 mennessä seuraavien lämmitysmuotojen osalt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604-1AE1-4776-B77C-F86EDC9F4F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76720" y="616572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http://fi.opasnet.org/fi/Kysely_puun_pienpolt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905-EAD1-43A4-9405-CDAC64854B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2800" spc="-1" strike="noStrike">
                <a:solidFill>
                  <a:srgbClr val="7bc143"/>
                </a:solidFill>
                <a:latin typeface="Arial"/>
              </a:rPr>
              <a:t>1A. Puun käyttö pääasiallisena lämmönlähteenä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197600" cy="291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4641840" y="1484280"/>
          <a:ext cx="4032360" cy="2297160"/>
        </p:xfrm>
        <a:graphic>
          <a:graphicData uri="http://schemas.openxmlformats.org/drawingml/2006/table">
            <a:tbl>
              <a:tblPr/>
              <a:tblGrid>
                <a:gridCol w="819000"/>
                <a:gridCol w="1501920"/>
                <a:gridCol w="817560"/>
                <a:gridCol w="8938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140360" y="1628640"/>
          <a:ext cx="4752720" cy="3456000"/>
        </p:xfrm>
        <a:graphic>
          <a:graphicData uri="http://schemas.openxmlformats.org/drawingml/2006/table">
            <a:tbl>
              <a:tblPr/>
              <a:tblGrid>
                <a:gridCol w="396720"/>
                <a:gridCol w="2936880"/>
                <a:gridCol w="942840"/>
                <a:gridCol w="476280"/>
              </a:tblGrid>
              <a:tr h="53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ääntyy palj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ääntyy jonkin ver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ysyy nykyisellää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ähentyy jonkin ver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ähentyy palj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osaa san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228-C711-4EEB-9988-73A601F9FE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sityksen 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elyn hyödyntäminen tutkimukse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ely tiedonhaun työvälineen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elytyökalun ominaisuud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simerkkinä kyselyn hyödyntäminen arvioinni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simerkkinä arviointi puun pienpolton terveysvaikutuks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nin rak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elyn hyödyntäminen arvioinn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elyn muut käyttösovelluk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8AE5-CAE9-427E-B3F8-0025CD4830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932360" y="1344600"/>
            <a:ext cx="3451320" cy="23972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2400" spc="-1" strike="noStrike">
                <a:solidFill>
                  <a:srgbClr val="7bc143"/>
                </a:solidFill>
                <a:latin typeface="Arial"/>
              </a:rPr>
              <a:t>1A. Miten arvioit tilanteen muuttuvan omakotitaloissa Suomessa vuoteen 2030 mennessä seuraavien lämmitysmuotojen osalta?</a:t>
            </a:r>
            <a:endParaRPr b="1" lang="en-US" sz="2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22160" y="3598920"/>
            <a:ext cx="3562560" cy="2473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003640" y="3699000"/>
            <a:ext cx="3402000" cy="2367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900000" y="1413000"/>
            <a:ext cx="3292560" cy="2286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411280" y="1413000"/>
            <a:ext cx="17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uun käyttö pääasiallisena</a:t>
            </a: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lämmönlähteen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1484280"/>
            <a:ext cx="20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uun käyttö lisälämmönlähteenä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378936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Öljyn käyttö lämmönlähteenä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3789360"/>
            <a:ext cx="17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ellettien käyttö lämmönlähteenä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1BF-5A8D-4012-8D4D-FAD2E7C36C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IITO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B98-9304-4C76-B770-E9A580FD512A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sely on sopiva tutkimusmetodi, jo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utkimusasetelma on tarkasti määrätty (eikä muutu hankkeen aika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utkija voi määrätä kysymykset etukäte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utkijalla on näkemys mahdollisista vastauksista (tiedon varmistamin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ytään määrällisesti mitattavia tai muuten eksaktisti määriteltäviä fyysisiä asioi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ymykset halutaan esittää suurelle joukolle henkilöitä, jotka asuvat hajallaan (oto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(Huom! Tulosten käsittelyssä kaikille vastaajat ovat saman arvoisia vrt. asiantuntija vs. mattimeikäläinen)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616572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Lähde: http://www2.uiah.fi/projekti/metodi/064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FA1-20C3-487B-8BCE-6BF9BCD972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sely tiedonhaun työvälineenä (1/2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elyn tarkoi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faktojen keruu vai mielipiteiden/asenteiden kartoitta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etod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utta kartoittava tutkimus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(avoimet kysymyk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lemassa olevan mallin täydentäminen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(kvantitatiivisten vastausten mahdollisu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ypoteesia testaava tutkimu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ohderyhm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usryhmä (ryhmä, jolta tietoja halut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tos (ryhmä perusjoukosta, jolle kysymykset esitetää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D24-1801-4DB2-8F46-F71B6F20FD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sely tiedonhaun työvälineenä (2/2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ymysten loogisu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ten ennakoi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hdollisen hypoteesin huomioi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isäkysymysten mahdollisu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ikarajoitt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usjoukon tavoittaminen/ motivoi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stausten käsit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llättävien vastausten käsitt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ettikysely vs. lo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EA8-8D23-46F4-99E9-07E959F818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76720" y="616572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http://fi.opasnet.org/fi/Kysely_puun_pienpolt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754-DC3D-43A4-81BA-05B53F096C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selytyökalun ominaisuud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Nettikysely (sähköinen muoto helpottaa tulosten käsittelyä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ikille avoin ja ilmainen käyttömahdollisuus (Google Docs -palvel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atii ainoastaan rekisteröinni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dostoihin pääsee käsiksi mistä tahansa internetyhteydellä ja selaimella varustetusta tietokonee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alvelu luokittelee ja taulukoi kyselyn tulokset automaattises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BE7-DA49-4C73-9421-18D6EC1C2E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4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448-A0AE-4456-AE47-D26FF539F5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0"/>
            <a:ext cx="9080640" cy="6524640"/>
            <a:chOff x="0" y="0"/>
            <a:chExt cx="9080640" cy="652464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080640" cy="65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 txBox="1"/>
            <p:nvPr/>
          </p:nvSpPr>
          <p:spPr>
            <a:xfrm>
              <a:off x="0" y="0"/>
              <a:ext cx="9080640" cy="652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85000"/>
                </a:lnSpc>
                <a:spcBef>
                  <a:spcPts val="1137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7E8-8E14-4E57-8888-3D7C8AB59F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8:23:42Z</dcterms:created>
  <dc:creator>pahz</dc:creator>
  <dc:description/>
  <dc:language>en-US</dc:language>
  <cp:lastModifiedBy>pahz</cp:lastModifiedBy>
  <dcterms:modified xsi:type="dcterms:W3CDTF">2010-02-15T06:31:15Z</dcterms:modified>
  <cp:revision>27</cp:revision>
  <dc:subject>suomi</dc:subject>
  <dc:title>Slide 1</dc:title>
</cp:coreProperties>
</file>